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328-4452-415A-A290-728D6922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8FE-624C-4937-952F-755FD2BE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274-FDA8-411D-BCE5-7ADB937B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614-9959-4D19-A6E5-516996DA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2019-315F-4D4A-A7F7-3D58CCF3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3D10-26F2-4933-A252-5FE525CC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4EFE-8EB0-4890-A19D-CF43C1D3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5732-23F4-4673-B4AD-5B7FF0D6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52ED-12D6-4040-880E-E563D644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DAA5-C2EA-4168-9B73-DE85EA2D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CF2A-6B07-420B-B7E5-43FB67B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342-7414-490E-83D5-D38081E1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FEA4-6293-4480-A26E-9CB35FCD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7F39-5139-4285-9B2F-BE8735A5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CE72-FE1A-4DD1-912B-2E5AF1EB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9121-9839-46AE-9B56-DAB83114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9C1E-4F72-4D3C-AE01-A2C65D70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369-C788-4F42-A680-0808280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DAA-2E59-450F-811A-2D7F647B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95C-D45E-43F8-85BE-3052541E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FCE-6C71-4238-B205-FB431F15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D60-D8E7-46B2-927F-FA2909E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46C-C3EF-4760-8D78-8439115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D75-C6E6-4EFA-B85F-45FD6EE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5D51-0701-49EF-929D-C8B6249F2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682-2E36-4116-B5D3-F4017F1A8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Arial Black"/>
              </a:rPr>
              <a:t>ЖИВОТНЫЙ МИР           АВСТРАЛИИ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обака Динго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751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Выводы: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8496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вотный мир Австралии отличается большим количество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эндемик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страус Эму, кенгуру, собака Динго, сумчатый дьявол, коала, птица Лирохвост, плащеносная ящерица и др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ликт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ехидна, утконос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Австралии насчитываетс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идов млекопитающих (более 100 сумчатых) 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идов птиц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ов земновод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Цель: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о животном мире Австралии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иться писать исследовательскую рабо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215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вить особенности матер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ить специфику животного мира Австрал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о популярных живот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ся с влиянием человека на животный ми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иться поиску информ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формлять результаты работы в соответствии с требова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умчатый волк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59537" t="53602" r="3890" b="16337"/>
          <a:stretch/>
        </p:blipFill>
        <p:spPr>
          <a:xfrm>
            <a:off x="1187280" y="1844640"/>
            <a:ext cx="70581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Утконос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69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Ехидн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0389" t="9192" r="10389" b="10894"/>
          <a:stretch/>
        </p:blipFill>
        <p:spPr>
          <a:xfrm>
            <a:off x="2195640" y="1844640"/>
            <a:ext cx="4968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енгуру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5219640" cy="4310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0" t="0" r="-1585" b="14041"/>
          <a:stretch/>
        </p:blipFill>
        <p:spPr>
          <a:xfrm>
            <a:off x="5435640" y="0"/>
            <a:ext cx="37083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оал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6195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Лирохвост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59537" t="4667" r="3890" b="14411"/>
          <a:stretch/>
        </p:blipFill>
        <p:spPr>
          <a:xfrm>
            <a:off x="4211640" y="333360"/>
            <a:ext cx="4681440" cy="440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96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4:51:59Z</dcterms:created>
  <dc:creator>1</dc:creator>
  <dc:description/>
  <dc:language>en-US</dc:language>
  <cp:lastModifiedBy>1</cp:lastModifiedBy>
  <dcterms:modified xsi:type="dcterms:W3CDTF">2007-04-20T19:44:55Z</dcterms:modified>
  <cp:revision>5</cp:revision>
  <dc:subject/>
  <dc:title>ЖИВОТНЫЙ МИР           АВСТРАЛИИ</dc:title>
</cp:coreProperties>
</file>